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9DAE-6F32-41C0-9E22-47143DC9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035-EA74-46E2-BB79-6DC717C6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77A-DC0D-439D-95E2-50E7857A4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192B-E8A9-4CC1-AE80-01B52C08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3FC-1DF8-4D3D-A24E-315228F8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3159-9332-4C64-AFBA-5C6BEE9D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468-CB0F-47D9-9505-AEA99B1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902-5B89-4D2F-B1D2-7FA0AE60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A98-E039-4C71-8CAB-6BF928C7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775-DB07-46E9-A926-0E163EC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D1E-66D6-4D47-868B-E981FA6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63A-6263-4E3D-A368-FE3355F9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566-7D29-4CCC-A606-1F5CC536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CF7-6387-4BB1-9040-695BFC6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5D-4320-4F86-8203-E5AAD4A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317-91A6-4728-B9C2-65488A7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B96-B92D-4BAA-8E7F-B6C7E89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39F-7BE3-4453-A777-8F5C09C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ACD-DD8A-4BFC-83D5-4E7BA62F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21"/>
                </a:solidFill>
                <a:latin typeface="Arial"/>
              </a:rPr>
              <a:t>Formal Lab Report Bas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wo_school_students_doing_lab_work_in_science_chemistry_class_royalty_free_080812-035122-132042"/>
          <p:cNvPicPr/>
          <p:nvPr/>
        </p:nvPicPr>
        <p:blipFill>
          <a:blip r:embed="rId1"/>
          <a:stretch/>
        </p:blipFill>
        <p:spPr>
          <a:xfrm>
            <a:off x="2438280" y="1981080"/>
            <a:ext cx="375948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62320" y="61722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. Colema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021"/>
                </a:solidFill>
                <a:latin typeface="Copperplate"/>
                <a:ea typeface="Copperplate"/>
              </a:rPr>
              <a:t>Writing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39480"/>
            <a:ext cx="8432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Ref. Sheet 3 directions step-by-step the first few labs but DO NOT write in lis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 about what happened in the lab in narrative form – no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ll claims with your data. Explain HOW the data supports your cla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o that someone who knows nothing about it can understand what you did in the lab, what you think, and why. CONNEC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OT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4" descr="connect-the-dots-maker 2.gif"/>
          <p:cNvPicPr/>
          <p:nvPr/>
        </p:nvPicPr>
        <p:blipFill>
          <a:blip r:embed="rId1"/>
          <a:srcRect l="0" t="9241" r="0" b="9241"/>
          <a:stretch/>
        </p:blipFill>
        <p:spPr>
          <a:xfrm>
            <a:off x="0" y="677880"/>
            <a:ext cx="9015480" cy="495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creen Shot 2014-09-16 at 11.56.10 PM.png"/>
          <p:cNvPicPr/>
          <p:nvPr/>
        </p:nvPicPr>
        <p:blipFill>
          <a:blip r:embed="rId2"/>
          <a:stretch/>
        </p:blipFill>
        <p:spPr>
          <a:xfrm>
            <a:off x="831960" y="0"/>
            <a:ext cx="8312040" cy="635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Spider-coloring-pages 2.gif"/>
          <p:cNvPicPr/>
          <p:nvPr/>
        </p:nvPicPr>
        <p:blipFill>
          <a:blip r:embed="rId3"/>
          <a:stretch/>
        </p:blipFill>
        <p:spPr>
          <a:xfrm>
            <a:off x="150840" y="609480"/>
            <a:ext cx="8864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PARTS OF A FORMAL LAB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lab question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-chart of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abl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 observations on it ye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/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write on data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iscuss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629400" y="91440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086600" y="990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lab.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952880" y="37339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5029200" y="3733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95680" y="355284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ment. D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Writ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 data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029200" y="54864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471640" y="5381640"/>
            <a:ext cx="32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at home. Las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before 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lab repo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Do all parts, in order, in lab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600200" y="297180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1600200" y="5334120"/>
            <a:ext cx="53352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948120" y="324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720240" y="2562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815840" y="20289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happen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H="1">
            <a:off x="3809520" y="2895480"/>
            <a:ext cx="685800" cy="4572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1981080" y="32767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495680" y="396252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Leave all pages in notebook until lab report is complete 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and ready to turn in. Then tear out </a:t>
            </a:r>
            <a:r>
              <a:rPr b="1" i="1" lang="en-US" sz="2800" spc="-1" strike="noStrike" u="sng">
                <a:solidFill>
                  <a:srgbClr val="ffb021"/>
                </a:solidFill>
                <a:uFillTx/>
                <a:latin typeface="Comic Sans MS"/>
              </a:rPr>
              <a:t>only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 the original pages - leave copy in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1752480" y="30481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1828800" y="3124080"/>
            <a:ext cx="16765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1905120" y="3200400"/>
            <a:ext cx="1676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1981080" y="32767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2133720" y="3352680"/>
            <a:ext cx="1752480" cy="2590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0"/>
          <p:cNvSpPr/>
          <p:nvPr/>
        </p:nvSpPr>
        <p:spPr>
          <a:xfrm>
            <a:off x="2133720" y="3429000"/>
            <a:ext cx="1676160" cy="2438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 flipH="1">
            <a:off x="3276360" y="3657600"/>
            <a:ext cx="990360" cy="2286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4"/>
          <p:cNvSpPr/>
          <p:nvPr/>
        </p:nvSpPr>
        <p:spPr>
          <a:xfrm>
            <a:off x="2440440" y="3657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5"/>
          <p:cNvSpPr/>
          <p:nvPr/>
        </p:nvSpPr>
        <p:spPr>
          <a:xfrm>
            <a:off x="1600200" y="28954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6"/>
          <p:cNvSpPr/>
          <p:nvPr/>
        </p:nvSpPr>
        <p:spPr>
          <a:xfrm>
            <a:off x="1600200" y="45720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7"/>
          <p:cNvSpPr/>
          <p:nvPr/>
        </p:nvSpPr>
        <p:spPr>
          <a:xfrm>
            <a:off x="1600200" y="47242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8"/>
          <p:cNvSpPr/>
          <p:nvPr/>
        </p:nvSpPr>
        <p:spPr>
          <a:xfrm>
            <a:off x="1600200" y="48769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9"/>
          <p:cNvSpPr/>
          <p:nvPr/>
        </p:nvSpPr>
        <p:spPr>
          <a:xfrm>
            <a:off x="1600200" y="50292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0"/>
          <p:cNvSpPr/>
          <p:nvPr/>
        </p:nvSpPr>
        <p:spPr>
          <a:xfrm>
            <a:off x="1600200" y="51814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1"/>
          <p:cNvSpPr/>
          <p:nvPr/>
        </p:nvSpPr>
        <p:spPr>
          <a:xfrm>
            <a:off x="1600200" y="5257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2"/>
          <p:cNvSpPr/>
          <p:nvPr/>
        </p:nvSpPr>
        <p:spPr>
          <a:xfrm>
            <a:off x="1600200" y="33526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3"/>
          <p:cNvSpPr/>
          <p:nvPr/>
        </p:nvSpPr>
        <p:spPr>
          <a:xfrm>
            <a:off x="1600200" y="35053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4"/>
          <p:cNvSpPr/>
          <p:nvPr/>
        </p:nvSpPr>
        <p:spPr>
          <a:xfrm>
            <a:off x="1600200" y="36576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5"/>
          <p:cNvSpPr/>
          <p:nvPr/>
        </p:nvSpPr>
        <p:spPr>
          <a:xfrm>
            <a:off x="1600200" y="38098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6"/>
          <p:cNvSpPr/>
          <p:nvPr/>
        </p:nvSpPr>
        <p:spPr>
          <a:xfrm>
            <a:off x="1600200" y="39625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7"/>
          <p:cNvSpPr/>
          <p:nvPr/>
        </p:nvSpPr>
        <p:spPr>
          <a:xfrm>
            <a:off x="1600200" y="4114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8"/>
          <p:cNvSpPr/>
          <p:nvPr/>
        </p:nvSpPr>
        <p:spPr>
          <a:xfrm>
            <a:off x="1600200" y="42670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9"/>
          <p:cNvSpPr/>
          <p:nvPr/>
        </p:nvSpPr>
        <p:spPr>
          <a:xfrm>
            <a:off x="1600200" y="44197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1"/>
          <p:cNvSpPr/>
          <p:nvPr/>
        </p:nvSpPr>
        <p:spPr>
          <a:xfrm>
            <a:off x="16002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2"/>
          <p:cNvSpPr/>
          <p:nvPr/>
        </p:nvSpPr>
        <p:spPr>
          <a:xfrm>
            <a:off x="1600200" y="32004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5"/>
          <p:cNvSpPr/>
          <p:nvPr/>
        </p:nvSpPr>
        <p:spPr>
          <a:xfrm rot="20973600">
            <a:off x="531720" y="3519360"/>
            <a:ext cx="1828800" cy="2417760"/>
          </a:xfrm>
          <a:prstGeom prst="parallelogram">
            <a:avLst>
              <a:gd name="adj" fmla="val 25000"/>
            </a:avLst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6"/>
          <p:cNvSpPr/>
          <p:nvPr/>
        </p:nvSpPr>
        <p:spPr>
          <a:xfrm>
            <a:off x="1600200" y="2895480"/>
            <a:ext cx="1600200" cy="76320"/>
          </a:xfrm>
          <a:prstGeom prst="rect">
            <a:avLst/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7"/>
          <p:cNvSpPr/>
          <p:nvPr/>
        </p:nvSpPr>
        <p:spPr>
          <a:xfrm>
            <a:off x="3429000" y="2438280"/>
            <a:ext cx="0" cy="83844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8"/>
          <p:cNvSpPr/>
          <p:nvPr/>
        </p:nvSpPr>
        <p:spPr>
          <a:xfrm>
            <a:off x="1830240" y="6095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021"/>
                </a:solidFill>
                <a:latin typeface="Comic Sans MS"/>
              </a:rPr>
              <a:t>Flow-chart: </a:t>
            </a:r>
            <a:r>
              <a:rPr b="0" i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brief</a:t>
            </a:r>
            <a:r>
              <a:rPr b="0" i="1" lang="en-US" sz="3200" spc="-1" strike="noStrike" u="sng">
                <a:solidFill>
                  <a:srgbClr val="ffb021"/>
                </a:solidFill>
                <a:uFillTx/>
                <a:latin typeface="Comic Sans MS"/>
              </a:rPr>
              <a:t> summary </a:t>
            </a:r>
            <a:r>
              <a:rPr b="0" i="1" lang="en-US" sz="3200" spc="-1" strike="noStrike">
                <a:solidFill>
                  <a:srgbClr val="ffb021"/>
                </a:solidFill>
                <a:latin typeface="Comic Sans MS"/>
              </a:rPr>
              <a:t>of procedure in flow-char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out 2 slices 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table knife, spread peanut butter on one of the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the 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put the two slices together with peanut butter and jelly sides tou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038480" y="1371600"/>
            <a:ext cx="213372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pea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 on s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05720" y="1371600"/>
            <a:ext cx="2209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629400" y="3581280"/>
            <a:ext cx="220968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2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72200" y="2133720"/>
            <a:ext cx="533520" cy="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7696080" y="2895480"/>
            <a:ext cx="0" cy="68580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421160" y="5305320"/>
            <a:ext cx="43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s are greatly simpl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with arrow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that you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5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e of th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reen Shot 2015-09-10 at 5.44.55 PM.png"/>
          <p:cNvPicPr/>
          <p:nvPr/>
        </p:nvPicPr>
        <p:blipFill>
          <a:blip r:embed="rId1"/>
          <a:stretch/>
        </p:blipFill>
        <p:spPr>
          <a:xfrm>
            <a:off x="873000" y="720720"/>
            <a:ext cx="7446960" cy="4809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20640" y="55306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move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 in a cup – do not put anything directly on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force the knob or dial. If it resists, stop tu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 flipV="1">
            <a:off x="1413000" y="5345640"/>
            <a:ext cx="614664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09800" y="-32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s for weig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Screen Shot 2015-09-10 at 5.44.55 PM.png"/>
          <p:cNvPicPr/>
          <p:nvPr/>
        </p:nvPicPr>
        <p:blipFill>
          <a:blip r:embed="rId1"/>
          <a:stretch/>
        </p:blipFill>
        <p:spPr>
          <a:xfrm>
            <a:off x="279360" y="447840"/>
            <a:ext cx="5491080" cy="3547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279360" y="3772080"/>
            <a:ext cx="476244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8440" y="4545000"/>
            <a:ext cx="911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weighing each item, zero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et sliders and Vernier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urn adjust knob until pointer is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slider weight to right one notch at a time until pointer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up slider one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dial on vernier until arm points exactly at the zero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Screen Shot 2015-09-10 at 7.14.40 PM.png"/>
          <p:cNvPicPr/>
          <p:nvPr/>
        </p:nvPicPr>
        <p:blipFill>
          <a:blip r:embed="rId2"/>
          <a:stretch/>
        </p:blipFill>
        <p:spPr>
          <a:xfrm>
            <a:off x="6319800" y="384120"/>
            <a:ext cx="2156040" cy="2146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creen Shot 2015-09-10 at 7.15.16 PM.png"/>
          <p:cNvPicPr/>
          <p:nvPr/>
        </p:nvPicPr>
        <p:blipFill>
          <a:blip r:embed="rId3"/>
          <a:stretch/>
        </p:blipFill>
        <p:spPr>
          <a:xfrm>
            <a:off x="6151680" y="385920"/>
            <a:ext cx="2484360" cy="2290680"/>
          </a:xfrm>
          <a:prstGeom prst="rect">
            <a:avLst/>
          </a:prstGeom>
          <a:ln w="0">
            <a:noFill/>
          </a:ln>
        </p:spPr>
      </p:pic>
      <p:sp>
        <p:nvSpPr>
          <p:cNvPr id="118" name="Right Arrow 13"/>
          <p:cNvSpPr/>
          <p:nvPr/>
        </p:nvSpPr>
        <p:spPr>
          <a:xfrm flipV="1">
            <a:off x="5770440" y="1157400"/>
            <a:ext cx="549360" cy="242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4295880" y="952560"/>
            <a:ext cx="560160" cy="579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279360" y="914400"/>
            <a:ext cx="1386000" cy="80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4" descr="vernier0.jpg"/>
          <p:cNvPicPr/>
          <p:nvPr/>
        </p:nvPicPr>
        <p:blipFill>
          <a:blip r:embed="rId4"/>
          <a:srcRect l="0" t="13339" r="0" b="13339"/>
          <a:stretch/>
        </p:blipFill>
        <p:spPr>
          <a:xfrm>
            <a:off x="4295880" y="2081160"/>
            <a:ext cx="4489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the Ver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Screen Shot 2015-09-10 at 7.40.21 PM.png"/>
          <p:cNvPicPr/>
          <p:nvPr/>
        </p:nvPicPr>
        <p:blipFill>
          <a:blip r:embed="rId1"/>
          <a:stretch/>
        </p:blipFill>
        <p:spPr>
          <a:xfrm>
            <a:off x="187200" y="996840"/>
            <a:ext cx="4530960" cy="2444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4718160" y="630360"/>
            <a:ext cx="442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oun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aces on dial between 0 and that number. That is tells you the ten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187812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219400" y="344160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62404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4076640" y="4916520"/>
            <a:ext cx="43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 FIND THE TOTAL WEIGHT: Add this to whatever shows on the sliders. For example, if it is 60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9"/>
          <p:cNvSpPr/>
          <p:nvPr/>
        </p:nvSpPr>
        <p:spPr>
          <a:xfrm>
            <a:off x="1068480" y="5727600"/>
            <a:ext cx="178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3338640" y="2602080"/>
            <a:ext cx="676080" cy="69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eft Arrow 25"/>
          <p:cNvSpPr/>
          <p:nvPr/>
        </p:nvSpPr>
        <p:spPr>
          <a:xfrm rot="1390200">
            <a:off x="3176280" y="1406160"/>
            <a:ext cx="790560" cy="244440"/>
          </a:xfrm>
          <a:prstGeom prst="left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Arrow 26"/>
          <p:cNvSpPr/>
          <p:nvPr/>
        </p:nvSpPr>
        <p:spPr>
          <a:xfrm rot="12717000">
            <a:off x="3739680" y="2283840"/>
            <a:ext cx="312840" cy="17748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 rot="963600">
            <a:off x="3047760" y="1707840"/>
            <a:ext cx="968400" cy="35388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1068480" y="4362480"/>
            <a:ext cx="247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0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5"/>
          <p:cNvCxnSpPr/>
          <p:nvPr/>
        </p:nvCxnSpPr>
        <p:spPr>
          <a:xfrm flipH="1" flipV="1">
            <a:off x="2307960" y="4709520"/>
            <a:ext cx="1675440" cy="1502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7" name="Rectangle 22"/>
          <p:cNvSpPr/>
          <p:nvPr/>
        </p:nvSpPr>
        <p:spPr>
          <a:xfrm rot="5595000">
            <a:off x="2511000" y="3687480"/>
            <a:ext cx="692280" cy="33660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0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5840" y="839880"/>
            <a:ext cx="4987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Count whole spaces on dial between 0 and that number. That is the ten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Screen Shot 2015-09-10 at 7.40.40 PM.png"/>
          <p:cNvPicPr/>
          <p:nvPr/>
        </p:nvPicPr>
        <p:blipFill>
          <a:blip r:embed="rId1"/>
          <a:stretch/>
        </p:blipFill>
        <p:spPr>
          <a:xfrm>
            <a:off x="19080" y="1201680"/>
            <a:ext cx="4137120" cy="221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535040" y="3436920"/>
            <a:ext cx="22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vernier.jpg"/>
          <p:cNvPicPr/>
          <p:nvPr/>
        </p:nvPicPr>
        <p:blipFill>
          <a:blip r:embed="rId1"/>
          <a:stretch/>
        </p:blipFill>
        <p:spPr>
          <a:xfrm>
            <a:off x="1746360" y="785880"/>
            <a:ext cx="6611760" cy="495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3879720" y="5842080"/>
            <a:ext cx="20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.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57200" y="13824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8:44Z</dcterms:created>
  <dc:creator>Office 2004 Test Drive User</dc:creator>
  <dc:description/>
  <dc:language>en-US</dc:language>
  <cp:lastModifiedBy>SCUSD</cp:lastModifiedBy>
  <dcterms:modified xsi:type="dcterms:W3CDTF">2015-09-14T03:27:32Z</dcterms:modified>
  <cp:revision>17</cp:revision>
  <dc:subject/>
  <dc:title>Lab Report Basics </dc:title>
</cp:coreProperties>
</file>